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FAF-5082-4232-AF67-57EC5237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C2F-2441-4861-B6C4-662621A5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54A-5592-4965-B2DC-2642CAC1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3B3-EFA0-4A3C-9DAC-C82105CD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57A-6ADA-4820-8D55-D27F9DF5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DFC-20A7-4628-BEC3-AC441A7A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192-BAF0-4260-B4E0-B681C918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5A4-7DCD-41A4-B876-B934C4FB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1AC-573D-4AED-A937-8DD2ED22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568-096B-4E75-A047-B4B7C4D8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EE1-1E3A-4492-8E35-31831FF9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C5B-9A88-4113-9460-8CF67F33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AE07-01E9-40EB-90CD-BC64D7341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8000" y="1824120"/>
            <a:ext cx="4583160" cy="3278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contrast="6000"/>
          </a:blip>
          <a:srcRect l="0" t="0" r="2143" b="0"/>
          <a:stretch/>
        </p:blipFill>
        <p:spPr>
          <a:xfrm>
            <a:off x="4475160" y="1812960"/>
            <a:ext cx="4572000" cy="334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b. To get a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b. To get a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759" t="0" r="4128" b="0"/>
          <a:stretch/>
        </p:blipFill>
        <p:spPr>
          <a:xfrm>
            <a:off x="106200" y="1773360"/>
            <a:ext cx="4321440" cy="319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3131" r="0" b="0"/>
          <a:stretch/>
        </p:blipFill>
        <p:spPr>
          <a:xfrm>
            <a:off x="4427640" y="1782720"/>
            <a:ext cx="45212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1:48:27Z</dcterms:created>
  <dc:creator>J.E Campagne</dc:creator>
  <dc:description/>
  <dc:language>en-US</dc:language>
  <cp:lastModifiedBy>J.E Campagne</cp:lastModifiedBy>
  <dcterms:modified xsi:type="dcterms:W3CDTF">2005-07-06T14:59:41Z</dcterms:modified>
  <cp:revision>2</cp:revision>
  <dc:subject/>
  <dc:title>Prob. To get a m trigger</dc:title>
</cp:coreProperties>
</file>